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913D-1898-4160-9500-56CDD682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AB97-2F02-47B5-B9D6-DA1E37B2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0F68-F899-4D41-B882-2084BCA0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CCB3-7F1A-481D-8110-8A00F08A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9AF6-D605-41D0-972B-4E06B053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60B3-0152-4F1F-88B2-30450F42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C31D-F57F-4FA7-9DB6-470E41E2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51DC-A184-40E9-9246-AB4C49AB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BAF8-F232-4790-A42B-F8D270B9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1BA7-7272-49BB-A50C-B1A89574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8CAE-6E2D-4340-9DC5-68A21E0B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ABBB-17F0-422B-8A79-876B4450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1483-2DB6-4552-8AF7-6C2293EF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F93A-F528-43A1-BC01-E2AA9757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32E6-0936-4648-9A47-9D89E03C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97E9-46FC-4988-B1A5-3E0767DE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3FEB-2B88-4993-8C15-B7431D7A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9AEA-D986-4C6D-8CCC-642BADF5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F3A0-50B6-4E8A-A19E-CA68E885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C431-D721-4D86-8DDC-B334D217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BF9B-145D-4DF8-9435-963DCD2B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62E1-D5F6-419E-BC66-BB80877D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4EB2-159E-4646-B928-5196EB77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1A04-56AD-4014-98D4-76821E88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0532-33F7-4F92-A576-BF66694FF6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5D07-D973-43D7-B1D5-CF704FEFB1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225360" y="1044720"/>
            <a:ext cx="952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438280"/>
            <a:ext cx="174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Rive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1219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Animal Vocabular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412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3040" y="179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67040" y="179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1320" y="179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1028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58840" y="1793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67200" y="3024360"/>
            <a:ext cx="4871880" cy="32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666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2132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0712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38120" y="1717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62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672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68520" y="175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2160" y="1717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1868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44720" y="17845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68240" y="17845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809880" y="3886200"/>
            <a:ext cx="3733920" cy="2467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990720" y="2971800"/>
            <a:ext cx="2342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09480" y="2133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2133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2133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21337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133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21337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2133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21337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21337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1560" y="18288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8288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1828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7880" y="18288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182880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3000" y="182880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1828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1828800"/>
            <a:ext cx="2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21337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3880" y="18288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21337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0720" y="18288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2133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2133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09000" y="182880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65480" y="18288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81680" y="2133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48520" y="2133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08640" y="1828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5840" y="18288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48520" y="182880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759120" y="2413080"/>
            <a:ext cx="30686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864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244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8760" y="2098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812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814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4336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4240" y="304920"/>
            <a:ext cx="2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1800" y="220968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37040" y="220968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51280" y="22096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9916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51640" y="220968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3184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760" y="2098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812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810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195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43000" y="2098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53640" y="21654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92080" y="21654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124080" y="3124080"/>
            <a:ext cx="365760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91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808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8072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4336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8680" y="2133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0" y="2133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5946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2133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429000" y="2705040"/>
            <a:ext cx="5181480" cy="3772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3200400" cy="2971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5638680" y="228600"/>
            <a:ext cx="30481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5248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8128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2286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2286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2286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96080" y="22860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6688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824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01520" y="1870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99720" y="1870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0512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52560" y="1870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44440" y="1870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5324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004240" y="18702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7200" y="609480"/>
            <a:ext cx="841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06320" y="190512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838080" y="2890800"/>
            <a:ext cx="45468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02:48Z</dcterms:created>
  <dc:creator>User</dc:creator>
  <dc:description/>
  <dc:language>en-US</dc:language>
  <cp:lastModifiedBy>Rutherford County Schools</cp:lastModifiedBy>
  <dcterms:modified xsi:type="dcterms:W3CDTF">2007-01-02T14:13:37Z</dcterms:modified>
  <cp:revision>22</cp:revision>
  <dc:subject/>
  <dc:title>No Slide Title</dc:title>
</cp:coreProperties>
</file>